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59294-CA32-456C-9CA9-F479B5E1D7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3523-E6CD-421D-AD58-BBD11A909C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66809-D350-46E3-8C29-34F16A67BA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890F2-B50C-4FA1-986C-B75C9728DE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E320E0-8160-4FF9-87FA-3B10FA599D6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8B1B-9184-4B3D-9047-549D775165D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F72EB-7462-4637-BB50-932A47A0735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A7FA3-94DC-430F-A976-5915E6A0EF2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DE396-6378-4010-8050-1D9338D0BB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AC08-311C-424B-9F18-9A1FA7C9A2B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ED1F5-954C-484B-A802-F3D2398677B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E65B76-9599-4E65-85D6-D5A9B01266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75A42-4E2E-4C90-9FC8-50738A980FD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95F032-6D96-426A-A4BD-8FD5CC0E533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D9475-9274-4030-83D2-349A708BBB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00BA6-B2F4-4EC0-ACC5-5139D47D455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8C7C5-2143-4771-B5CB-FEDBC238A85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D279-CD66-4A25-8CC3-10F31581831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9C0E-DEB7-4E82-A620-FC2B652073C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BAB0-BAFB-4BD8-88A5-4BDDD14E749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11018-CE1D-4C1C-8D71-AAFF5D66F7C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0833D-D2FA-4D7C-AE4C-FB9E12D0C5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5016E-9329-4D12-893E-6435D49ED92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724E-F69F-408E-A1E1-81BACF89E08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B467-BA3F-4322-8E25-EC8413B4EA9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3C2D-DCFC-4924-B9C4-53254E0CEC4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B59D-B323-4D69-B99F-0A911366A8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6F5B-59C7-44D0-9688-38C399D7268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B4F0-65EF-4D7E-BE16-5777AFE719B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FE66-6EC8-4D13-9E5A-B38C8963324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71E007-F31B-4235-803A-6652455B332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BF874F-4D00-4B52-AE9E-2B340F7B69E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2018C5-715D-4BD9-9147-5EB836A203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FB9CB-9EF1-45C4-B218-519A37524DC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C00EF-95B3-4FCE-A9D2-9FEDC0F8028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F4D50B-F0AC-4C1C-A484-519120E4688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69573-30F1-45CE-A36A-C6FF7DFF576A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00103-61E9-4CDB-BE33-D57EEF13F5AE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46EFA4-A11C-4403-B467-737DFD4AB3A6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22EA11-85DC-4A5A-BEA6-E940AE87F2B6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53DC2B-ED7D-4FCB-BB25-BDC79E14D14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A03FF9-9A0D-4664-A074-564616CF4E90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011840"/>
            <a:ext cx="264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D85EE7-B5EE-40BE-9C13-CCAC0CAFA4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15E78E-68A1-46C0-9988-FBCC1E164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87280"/>
            <a:ext cx="8229600" cy="49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5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C003-052D-44FB-977E-AA3F61ECD98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4B015-CDF0-4B34-951F-6EC4C9D6D4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1184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8D681-6EB0-4861-9C75-DFDC048BD9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1840"/>
            <a:ext cx="8229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178E6-C405-4853-834D-D7CCEB1286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25.xml"/><Relationship Id="rId9" Type="http://schemas.openxmlformats.org/officeDocument/2006/relationships/slideLayout" Target="../slideLayouts/slideLayout26.xml"/><Relationship Id="rId10" Type="http://schemas.openxmlformats.org/officeDocument/2006/relationships/slideLayout" Target="../slideLayouts/slideLayout27.xml"/><Relationship Id="rId11" Type="http://schemas.openxmlformats.org/officeDocument/2006/relationships/slideLayout" Target="../slideLayouts/slideLayout28.xml"/><Relationship Id="rId12" Type="http://schemas.openxmlformats.org/officeDocument/2006/relationships/slideLayout" Target="../slideLayouts/slideLayout29.xml"/><Relationship Id="rId13" Type="http://schemas.openxmlformats.org/officeDocument/2006/relationships/slideLayout" Target="../slideLayouts/slideLayout30.xml"/><Relationship Id="rId14" Type="http://schemas.openxmlformats.org/officeDocument/2006/relationships/slideLayout" Target="../slideLayouts/slideLayout31.xml"/><Relationship Id="rId15" Type="http://schemas.openxmlformats.org/officeDocument/2006/relationships/slideLayout" Target="../slideLayouts/slideLayout32.xml"/><Relationship Id="rId16" Type="http://schemas.openxmlformats.org/officeDocument/2006/relationships/slideLayout" Target="../slideLayouts/slideLayout33.xml"/><Relationship Id="rId17" Type="http://schemas.openxmlformats.org/officeDocument/2006/relationships/slideLayout" Target="../slideLayouts/slideLayout34.xml"/><Relationship Id="rId18" Type="http://schemas.openxmlformats.org/officeDocument/2006/relationships/slideLayout" Target="../slideLayouts/slideLayout35.xml"/><Relationship Id="rId19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2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6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37.xml"/><Relationship Id="rId16" Type="http://schemas.openxmlformats.org/officeDocument/2006/relationships/slideLayout" Target="../slideLayouts/slideLayout38.xml"/><Relationship Id="rId17" Type="http://schemas.openxmlformats.org/officeDocument/2006/relationships/slideLayout" Target="../slideLayouts/slideLayout39.xml"/><Relationship Id="rId18" Type="http://schemas.openxmlformats.org/officeDocument/2006/relationships/slideLayout" Target="../slideLayouts/slideLayout40.xml"/><Relationship Id="rId19" Type="http://schemas.openxmlformats.org/officeDocument/2006/relationships/slideLayout" Target="../slideLayouts/slideLayout41.xml"/><Relationship Id="rId20" Type="http://schemas.openxmlformats.org/officeDocument/2006/relationships/slideLayout" Target="../slideLayouts/slideLayout42.xml"/><Relationship Id="rId21" Type="http://schemas.openxmlformats.org/officeDocument/2006/relationships/slideLayout" Target="../slideLayouts/slideLayout43.xml"/><Relationship Id="rId22" Type="http://schemas.openxmlformats.org/officeDocument/2006/relationships/slideLayout" Target="../slideLayouts/slideLayout44.xml"/><Relationship Id="rId23" Type="http://schemas.openxmlformats.org/officeDocument/2006/relationships/slideLayout" Target="../slideLayouts/slideLayout45.xml"/><Relationship Id="rId24" Type="http://schemas.openxmlformats.org/officeDocument/2006/relationships/slideLayout" Target="../slideLayouts/slideLayout46.xml"/><Relationship Id="rId25" Type="http://schemas.openxmlformats.org/officeDocument/2006/relationships/slideLayout" Target="../slideLayouts/slideLayout47.xml"/><Relationship Id="rId26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27CE4-3F69-4703-98FC-9F9A1B230AA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4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5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49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50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51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6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sldNum" idx="2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61A66-8E6C-4488-9B08-1620378F6458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61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62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63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4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5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6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7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8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69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8728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Aft>
                <a:spcPts val="601"/>
              </a:spcAft>
              <a:buClr>
                <a:srgbClr val="1f4299"/>
              </a:buClr>
              <a:buSzPct val="70000"/>
              <a:buFont typeface="Wingdings 2" charset="2"/>
              <a:buChar char="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1" marL="743040" indent="-28584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2" marL="11430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3" marL="1600200" indent="-228600">
              <a:lnSpc>
                <a:spcPct val="95000"/>
              </a:lnSpc>
              <a:spcAft>
                <a:spcPts val="601"/>
              </a:spcAft>
              <a:buClr>
                <a:srgbClr val="779bc7"/>
              </a:buClr>
              <a:buFont typeface="Denda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4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5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  <a:p>
            <a:pPr lvl="6" marL="2057400" indent="-228600">
              <a:lnSpc>
                <a:spcPct val="95000"/>
              </a:lnSpc>
              <a:spcAft>
                <a:spcPts val="601"/>
              </a:spcAft>
              <a:buClr>
                <a:srgbClr val="000000"/>
              </a:buClr>
              <a:buSzPct val="90000"/>
              <a:buFont typeface="DendaSan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ndaSans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3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9232F-AA6A-4585-8A49-257404AD8B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172360" y="6059520"/>
            <a:ext cx="720720" cy="544320"/>
            <a:chOff x="8172360" y="6059520"/>
            <a:chExt cx="720720" cy="544320"/>
          </a:xfrm>
        </p:grpSpPr>
        <p:grpSp>
          <p:nvGrpSpPr>
            <p:cNvPr id="111" name=""/>
            <p:cNvGrpSpPr/>
            <p:nvPr/>
          </p:nvGrpSpPr>
          <p:grpSpPr>
            <a:xfrm>
              <a:off x="8172360" y="6059520"/>
              <a:ext cx="720720" cy="544320"/>
              <a:chOff x="8172360" y="6059520"/>
              <a:chExt cx="720720" cy="544320"/>
            </a:xfrm>
          </p:grpSpPr>
          <p:sp>
            <p:nvSpPr>
              <p:cNvPr id="112" name=""/>
              <p:cNvSpPr/>
              <p:nvPr/>
            </p:nvSpPr>
            <p:spPr>
              <a:xfrm>
                <a:off x="8172360" y="6059520"/>
                <a:ext cx="543600" cy="54432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1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8366760" y="6253920"/>
                <a:ext cx="144360" cy="15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4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852984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8618400" y="6258240"/>
                <a:ext cx="7380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6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873936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7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8849520" y="6258240"/>
                <a:ext cx="43560" cy="1476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" name=""/>
            <p:cNvSpPr/>
            <p:nvPr/>
          </p:nvSpPr>
          <p:spPr>
            <a:xfrm>
              <a:off x="8686800" y="6317280"/>
              <a:ext cx="28800" cy="28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8"/>
    <p:sldLayoutId id="2147483676" r:id="rId9"/>
    <p:sldLayoutId id="2147483677" r:id="rId10"/>
    <p:sldLayoutId id="2147483678" r:id="rId11"/>
    <p:sldLayoutId id="2147483679" r:id="rId12"/>
    <p:sldLayoutId id="2147483680" r:id="rId13"/>
    <p:sldLayoutId id="2147483681" r:id="rId14"/>
    <p:sldLayoutId id="2147483682" r:id="rId15"/>
    <p:sldLayoutId id="2147483683" r:id="rId16"/>
    <p:sldLayoutId id="2147483684" r:id="rId17"/>
    <p:sldLayoutId id="2147483685" r:id="rId18"/>
    <p:sldLayoutId id="2147483686" r:id="rId19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1550880" y="1298520"/>
            <a:ext cx="4275360" cy="3224160"/>
            <a:chOff x="1550880" y="1298520"/>
            <a:chExt cx="4275360" cy="3224160"/>
          </a:xfrm>
        </p:grpSpPr>
        <p:grpSp>
          <p:nvGrpSpPr>
            <p:cNvPr id="156" name=""/>
            <p:cNvGrpSpPr/>
            <p:nvPr/>
          </p:nvGrpSpPr>
          <p:grpSpPr>
            <a:xfrm>
              <a:off x="1550880" y="1298520"/>
              <a:ext cx="4275360" cy="3224160"/>
              <a:chOff x="1550880" y="1298520"/>
              <a:chExt cx="4275360" cy="3224160"/>
            </a:xfrm>
          </p:grpSpPr>
          <p:sp>
            <p:nvSpPr>
              <p:cNvPr id="157" name=""/>
              <p:cNvSpPr/>
              <p:nvPr/>
            </p:nvSpPr>
            <p:spPr>
              <a:xfrm>
                <a:off x="1550880" y="1298520"/>
                <a:ext cx="3224160" cy="322416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2705040" y="2449440"/>
                <a:ext cx="857160" cy="91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9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36720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0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4195800" y="2475000"/>
                <a:ext cx="43812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491328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567400" y="2475000"/>
                <a:ext cx="258840" cy="8748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3" name=""/>
            <p:cNvSpPr/>
            <p:nvPr/>
          </p:nvSpPr>
          <p:spPr>
            <a:xfrm>
              <a:off x="4602240" y="2825640"/>
              <a:ext cx="171360" cy="168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sp>
        <p:nvSpPr>
          <p:cNvPr id="164" name="PlaceHolder 1"/>
          <p:cNvSpPr>
            <a:spLocks noGrp="1"/>
          </p:cNvSpPr>
          <p:nvPr>
            <p:ph type="sldNum" idx="4"/>
          </p:nvPr>
        </p:nvSpPr>
        <p:spPr>
          <a:xfrm>
            <a:off x="8748720" y="6597360"/>
            <a:ext cx="395280" cy="26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1f42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68F3-11FB-4007-8166-7C86491E000E}" type="slidenum">
              <a:rPr b="0" lang="en-US" sz="1000" spc="-1" strike="noStrike">
                <a:solidFill>
                  <a:srgbClr val="1f42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783520" y="1832040"/>
            <a:ext cx="36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DendaSans"/>
              </a:rPr>
              <a:t>Investigator Meeting</a:t>
            </a:r>
            <a:endParaRPr b="0" lang="en-US" sz="2800" spc="-1" strike="noStrike">
              <a:solidFill>
                <a:srgbClr val="000000"/>
              </a:solidFill>
              <a:latin typeface="Denda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471320" y="2781360"/>
            <a:ext cx="6124680" cy="14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f4299"/>
                </a:solidFill>
                <a:latin typeface="DendaSans"/>
              </a:rPr>
              <a:t>Click to edit the title text format</a:t>
            </a:r>
            <a:endParaRPr b="0" lang="en-US" sz="3000" spc="-1" strike="noStrike">
              <a:solidFill>
                <a:srgbClr val="1f4299"/>
              </a:solidFill>
              <a:latin typeface="DendaSans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727200" y="476280"/>
            <a:ext cx="2813040" cy="2124000"/>
            <a:chOff x="727200" y="476280"/>
            <a:chExt cx="2813040" cy="2124000"/>
          </a:xfrm>
        </p:grpSpPr>
        <p:grpSp>
          <p:nvGrpSpPr>
            <p:cNvPr id="168" name=""/>
            <p:cNvGrpSpPr/>
            <p:nvPr/>
          </p:nvGrpSpPr>
          <p:grpSpPr>
            <a:xfrm>
              <a:off x="727200" y="476280"/>
              <a:ext cx="2813040" cy="2124000"/>
              <a:chOff x="727200" y="476280"/>
              <a:chExt cx="2813040" cy="2124000"/>
            </a:xfrm>
          </p:grpSpPr>
          <p:sp>
            <p:nvSpPr>
              <p:cNvPr id="169" name=""/>
              <p:cNvSpPr/>
              <p:nvPr/>
            </p:nvSpPr>
            <p:spPr>
              <a:xfrm>
                <a:off x="727200" y="476280"/>
                <a:ext cx="2121120" cy="2124000"/>
              </a:xfrm>
              <a:prstGeom prst="ellipse">
                <a:avLst/>
              </a:prstGeom>
              <a:solidFill>
                <a:srgbClr val="d8e6f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DendaSans"/>
                </a:endParaRPr>
              </a:p>
            </p:txBody>
          </p:sp>
          <p:pic>
            <p:nvPicPr>
              <p:cNvPr id="170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1486440" y="1234440"/>
                <a:ext cx="563760" cy="605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1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212256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2467440" y="1251360"/>
                <a:ext cx="28800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3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293940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3369960" y="1251360"/>
                <a:ext cx="170280" cy="5760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75" name=""/>
            <p:cNvSpPr/>
            <p:nvPr/>
          </p:nvSpPr>
          <p:spPr>
            <a:xfrm>
              <a:off x="2734920" y="1482120"/>
              <a:ext cx="112680" cy="1108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  <p:pic>
        <p:nvPicPr>
          <p:cNvPr id="176" name="" descr=""/>
          <p:cNvPicPr/>
          <p:nvPr/>
        </p:nvPicPr>
        <p:blipFill>
          <a:blip r:embed="rId13"/>
          <a:stretch/>
        </p:blipFill>
        <p:spPr>
          <a:xfrm>
            <a:off x="727200" y="6191280"/>
            <a:ext cx="752400" cy="4111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14">
            <a:lum bright="100000"/>
          </a:blip>
          <a:stretch/>
        </p:blipFill>
        <p:spPr>
          <a:xfrm>
            <a:off x="6948360" y="6016680"/>
            <a:ext cx="1938600" cy="58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5"/>
    <p:sldLayoutId id="2147483689" r:id="rId16"/>
    <p:sldLayoutId id="2147483690" r:id="rId17"/>
    <p:sldLayoutId id="2147483691" r:id="rId18"/>
    <p:sldLayoutId id="2147483692" r:id="rId19"/>
    <p:sldLayoutId id="2147483693" r:id="rId20"/>
    <p:sldLayoutId id="2147483694" r:id="rId21"/>
    <p:sldLayoutId id="2147483695" r:id="rId22"/>
    <p:sldLayoutId id="2147483696" r:id="rId23"/>
    <p:sldLayoutId id="2147483697" r:id="rId24"/>
    <p:sldLayoutId id="2147483698" r:id="rId25"/>
    <p:sldLayoutId id="2147483699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74840" y="1337400"/>
            <a:ext cx="1165320" cy="219240"/>
            <a:chOff x="474840" y="1337400"/>
            <a:chExt cx="1165320" cy="219240"/>
          </a:xfrm>
        </p:grpSpPr>
        <p:sp>
          <p:nvSpPr>
            <p:cNvPr id="215" name="TextBox 15396"/>
            <p:cNvSpPr/>
            <p:nvPr/>
          </p:nvSpPr>
          <p:spPr>
            <a:xfrm>
              <a:off x="679320" y="1337400"/>
              <a:ext cx="96084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</a:t>
              </a:r>
              <a:r>
                <a:rPr b="0" lang="en-US" sz="1600" spc="-1" strike="noStrike">
                  <a:solidFill>
                    <a:srgbClr val="000000"/>
                  </a:solidFill>
                  <a:latin typeface="DendaSans"/>
                </a:rPr>
                <a:t>75 years</a:t>
              </a:r>
              <a:endParaRPr b="0" lang="en-US" sz="1600" spc="-1" strike="noStrike">
                <a:solidFill>
                  <a:srgbClr val="000000"/>
                </a:solidFill>
                <a:latin typeface="DendaSans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840" y="1346040"/>
              <a:ext cx="190440" cy="190800"/>
            </a:xfrm>
            <a:prstGeom prst="ellipse">
              <a:avLst/>
            </a:prstGeom>
            <a:solidFill>
              <a:srgbClr val="ab25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DendaSans"/>
              </a:endParaRPr>
            </a:p>
          </p:txBody>
        </p:sp>
      </p:grp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3T14:21:28Z</dcterms:created>
  <dc:creator/>
  <dc:description/>
  <dc:language>en-US</dc:language>
  <cp:lastModifiedBy>lipskip</cp:lastModifiedBy>
  <dcterms:modified xsi:type="dcterms:W3CDTF">2010-07-02T10:19:17Z</dcterms:modified>
  <cp:revision>251</cp:revision>
  <dc:subject/>
  <dc:title>Slide 1</dc:title>
</cp:coreProperties>
</file>