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8BDA-B0E0-47BE-82FA-30CE82BF5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23A56-714D-4E31-AEAF-C9FBD64B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E0369-B5D2-4A15-93E8-FEE5464CA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E1E3-6B48-48D5-BB94-03BCC0329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B500-12F6-4FB1-8F1F-DF89B9F8C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E306-00AC-4F3D-A4F0-256CD0DE4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1336-E8D3-4353-8AE0-A9D0C4C58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78D9-3FAA-4DA7-84E2-D2D0A37A1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8B4A-EDA6-4A4D-A013-19F79348E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0790-7094-419A-B4A6-EC9C245A9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280A-765C-4256-B72C-D2DF58E9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303EB-5B14-4E4E-A4F5-9C719B9B8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B1B5-A3BF-4819-ACD7-445B63AEF4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42920" y="2203920"/>
            <a:ext cx="711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8080"/>
                </a:solidFill>
                <a:latin typeface="Times New Roman"/>
                <a:ea typeface="隶书"/>
              </a:rPr>
              <a:t>平抛运动的分解演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1-27T12:34:20Z</dcterms:created>
  <dc:creator>gxk</dc:creator>
  <dc:description/>
  <dc:language>en-US</dc:language>
  <cp:lastModifiedBy>Windows XP Mode</cp:lastModifiedBy>
  <dcterms:modified xsi:type="dcterms:W3CDTF">2013-06-03T05:20:30Z</dcterms:modified>
  <cp:revision>38</cp:revision>
  <dc:subject/>
  <dc:title>没有幻灯片标题</dc:title>
</cp:coreProperties>
</file>