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207F-272A-4E48-AC27-B872E63D7F1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se are the notes for 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</a:rPr>
              <a:t>These are the notes on page two, all of them are bold and ital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6E58-5FD0-4653-941C-E507E95B6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0FA1-FBDB-4E1C-A9A2-A20EBC3AE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CB5A-78ED-4ECB-A496-4B9841D63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1B6-61FC-4270-A53A-64D156E44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9BB-491F-4E89-A80E-FD7BACB2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5D2A-F589-4E53-8026-8929AEA6B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92C6-BDC2-4108-AE4A-82CF53C0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A488-2620-47B3-9737-D6CB22979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B9B0C-47AB-43DC-B008-FF3DA3FF1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2D94-CE56-47FF-A046-5EBCB3EF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19BC-99C0-4B88-98D7-0F4692A04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5C1-D468-4E67-A6FA-D4F605576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5F61-4396-46BC-9146-1400D82D51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st sub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on pag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the title on pag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page tw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has several block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me of them are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ome of them are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3T15:39:15Z</dcterms:created>
  <dc:creator>Hogwarts</dc:creator>
  <dc:description/>
  <dc:language>en-US</dc:language>
  <cp:lastModifiedBy>Hogwarts</cp:lastModifiedBy>
  <dcterms:modified xsi:type="dcterms:W3CDTF">2005-05-13T15:40:33Z</dcterms:modified>
  <cp:revision>2</cp:revision>
  <dc:subject/>
  <dc:title>This is a test title</dc:title>
</cp:coreProperties>
</file>