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008840" cy="9294840"/>
          </a:xfrm>
          <a:custGeom>
            <a:avLst/>
            <a:gdLst>
              <a:gd name="textAreaLeft" fmla="*/ 360 w 7008840"/>
              <a:gd name="textAreaRight" fmla="*/ 7008480 w 7008840"/>
              <a:gd name="textAreaTop" fmla="*/ 360 h 9294840"/>
              <a:gd name="textAreaBottom" fmla="*/ 9294480 h 9294840"/>
            </a:gdLst>
            <a:ahLst/>
            <a:rect l="textAreaLeft" t="textAreaTop" r="textAreaRight" b="textAreaBottom"/>
            <a:pathLst>
              <a:path w="21600" h="28645">
                <a:moveTo>
                  <a:pt x="4" y="0"/>
                </a:moveTo>
                <a:arcTo wR="4" hR="4" stAng="16200000" swAng="-5400000"/>
                <a:lnTo>
                  <a:pt x="0" y="28641"/>
                </a:lnTo>
                <a:arcTo wR="4" hR="4" stAng="10800000" swAng="-5400000"/>
                <a:lnTo>
                  <a:pt x="21596" y="2864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7"/>
          </p:nvPr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80800" y="696600"/>
            <a:ext cx="464508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934920" y="4416120"/>
            <a:ext cx="5137200" cy="4179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9"/>
          </p:nvPr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15F93F-003F-423D-B195-968C4A99ED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DA39CE-2E59-4466-8257-997B690B471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1E06B5-7E08-4B1E-9DB3-1F01B738AB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556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Refer to the aggregation dia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B3B5C0-0CCE-4E0C-B2A2-4C0E6A707D7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8BAE3-180F-4BC9-B2B6-7AE8101EB8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B400AD-E148-4E52-B114-302F1DB34C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132D3-1F9F-4147-9A64-E21B145D7BB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2D5611-8865-4C03-AE75-506D104E2C8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B07AC8-8C41-4498-A263-4C1F5CED8AD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E9D43-B09B-4780-AE32-79931027F44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A1ACD-6F39-4E1D-AE2F-7BCCA375F9A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F5CD0-0007-43AB-A380-EDB363BA22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A424B5-9D16-4A59-B6AE-D56595BF216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CABE59-8108-4D7F-8A65-9660EAE7ABA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6C29B3-501E-4ECB-A06B-68D812155F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0CFFF9-56F7-4B5E-8E9D-A81BDE627C3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"/>
          <p:cNvSpPr txBox="1"/>
          <p:nvPr/>
        </p:nvSpPr>
        <p:spPr>
          <a:xfrm>
            <a:off x="3971880" y="8831160"/>
            <a:ext cx="303552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6A5C72-C0C0-465D-8AF5-0F4B34B1EF2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-360" y="8831160"/>
            <a:ext cx="3035160" cy="4622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-360"/>
            <a:ext cx="303516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3971880" y="-360"/>
            <a:ext cx="3035520" cy="461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  <a:ea typeface="SimSu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74BB4A-7595-4BCC-84A5-718974FFCD8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79910-BF3A-499E-A218-13AAF16922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10BC23-479E-4553-A23E-2B7FB9F44D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7D88E8-6919-4C24-8244-BF601EA2820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AD44DF-0ADE-4674-B0BE-563C8DB1A0F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1A29B-37FC-4343-A3E4-88ECDECA6A3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7382F0-ED23-436C-B4F0-5110E0191C5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SimSu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"/>
          <p:cNvSpPr/>
          <p:nvPr/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390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CAF4-1929-4414-B7D8-686CA0F68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7E96-8B84-41F9-B127-FD9964407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4E9C-8DFC-489E-9D94-3B9AF08BE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155D-12E8-423B-80D1-4B33BD813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D059E-4456-459D-B8D3-754CDAB4B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D1CF7-4727-44EC-B98D-DCBB87691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9879-93A2-4285-9A92-01E47D62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A5264-B0A1-429D-B328-C3AA0532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88AC-CABA-4912-84CE-0A8CA80D6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EEF07-43DE-467A-81A7-6CC6E46DF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8B878-3BE5-4EDA-81A7-E2065147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42EF-7DBC-4C3D-8B71-036D80E6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FA9F-AA42-4EE4-9307-9D48F1533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A8F7-9751-41DA-A970-56A4BBC8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DD8BC-BACB-4CC0-996C-119AF0459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917A-3B09-43BD-99EF-6AF3B28E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137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46920" y="144756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3805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137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046920" y="4073040"/>
            <a:ext cx="269784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D0CD-6B43-4154-B11F-3593E7C1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0210-9EEE-4D33-9E72-E89318666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13E4-2A14-454A-B95E-677B40BE6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C5B6-DE6D-4D6C-B03C-6BB00D28F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440" y="379440"/>
            <a:ext cx="7790040" cy="31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411D-0B79-4FEA-BA1B-4EF89576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D206-AC8C-47D7-ABC3-5C2081465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07304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03E1-BA72-4F0C-BAE7-BD5209A3D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8888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520" y="4073040"/>
            <a:ext cx="8379000" cy="239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949E-B1D2-4347-BCB8-C02559241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1219320"/>
            <a:ext cx="8410680" cy="46080"/>
          </a:xfrm>
          <a:prstGeom prst="rect">
            <a:avLst/>
          </a:prstGeom>
          <a:solidFill>
            <a:srgbClr val="3333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ffcf01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324120"/>
            <a:ext cx="190188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200040" y="6324120"/>
            <a:ext cx="28926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520" y="640044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1EA666-DB44-4F9A-827B-C5AA90D6D462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438280"/>
            <a:ext cx="9007200" cy="1051200"/>
            <a:chOff x="0" y="2438280"/>
            <a:chExt cx="9007200" cy="1051200"/>
          </a:xfrm>
        </p:grpSpPr>
        <p:grpSp>
          <p:nvGrpSpPr>
            <p:cNvPr id="43" name=""/>
            <p:cNvGrpSpPr/>
            <p:nvPr/>
          </p:nvGrpSpPr>
          <p:grpSpPr>
            <a:xfrm>
              <a:off x="290160" y="2545920"/>
              <a:ext cx="708840" cy="472320"/>
              <a:chOff x="290160" y="2545920"/>
              <a:chExt cx="708840" cy="472320"/>
            </a:xfrm>
          </p:grpSpPr>
          <p:sp>
            <p:nvSpPr>
              <p:cNvPr id="44" name=""/>
              <p:cNvSpPr/>
              <p:nvPr/>
            </p:nvSpPr>
            <p:spPr>
              <a:xfrm>
                <a:off x="290160" y="2545920"/>
                <a:ext cx="436680" cy="472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671400" y="2545920"/>
                <a:ext cx="327600" cy="472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" name=""/>
            <p:cNvGrpSpPr/>
            <p:nvPr/>
          </p:nvGrpSpPr>
          <p:grpSpPr>
            <a:xfrm>
              <a:off x="414000" y="2967480"/>
              <a:ext cx="734400" cy="472320"/>
              <a:chOff x="414000" y="2967480"/>
              <a:chExt cx="734400" cy="472320"/>
            </a:xfrm>
          </p:grpSpPr>
          <p:sp>
            <p:nvSpPr>
              <p:cNvPr id="47" name=""/>
              <p:cNvSpPr/>
              <p:nvPr/>
            </p:nvSpPr>
            <p:spPr>
              <a:xfrm>
                <a:off x="414000" y="2967480"/>
                <a:ext cx="421200" cy="47232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81200" y="2967480"/>
                <a:ext cx="367200" cy="47232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" name=""/>
            <p:cNvSpPr/>
            <p:nvPr/>
          </p:nvSpPr>
          <p:spPr>
            <a:xfrm>
              <a:off x="0" y="2894760"/>
              <a:ext cx="560160" cy="421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34680" y="2438280"/>
              <a:ext cx="31320" cy="105120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315720" y="3258360"/>
              <a:ext cx="8691480" cy="5508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1828800"/>
            <a:ext cx="7769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9903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03/25/0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42864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8576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US" sz="1400" spc="-1" strike="noStrike">
                <a:solidFill>
                  <a:srgbClr val="000000"/>
                </a:solidFill>
                <a:latin typeface="Tahoma"/>
                <a:ea typeface="SimSu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0F10B8B-1922-4EAC-982E-BD97944E2045}" type="slidenum">
              <a:rPr b="0" lang="en-US" sz="1400" spc="-1" strike="noStrike">
                <a:solidFill>
                  <a:srgbClr val="000000"/>
                </a:solidFill>
                <a:latin typeface="Tahoma"/>
                <a:ea typeface="SimSu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120" y="152280"/>
            <a:ext cx="807732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Chapter 4: Data Cube Computation and Data Generaliz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761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 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6119640" y="360360"/>
            <a:ext cx="3024360" cy="360036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52280" y="379080"/>
            <a:ext cx="6096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UC: Partition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0" y="1260000"/>
            <a:ext cx="6084720" cy="52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Usually, entire data set                                 can’t fit in main memor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Sort </a:t>
            </a:r>
            <a:r>
              <a:rPr b="0" i="1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distinct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 values, partition into blocks that fit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Continue process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26160" indent="-32616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  <a:ea typeface="SimSun"/>
              </a:rPr>
              <a:t>Optimization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External Sorting, Hashing, Counting S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rdering dimensions to encourage pru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rdinality, Skew, Corre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9920" indent="-27108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llapsing duplic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an’t do holistic aggregates anymor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: An Integrating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-360" y="119700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tegrate the top-down and bottom-up metho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Explore shared dimens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dimensio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the shared dimension of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C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n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/AB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means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as shared dimension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llows for shared computa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cub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is computed simultaneously a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B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Aggregate in a top-down manner but with the bottom-up sub-layer underneath which will allow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 pru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11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Shared dimensions grow in bottom-up fash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0" name=""/>
          <p:cNvGraphicFramePr/>
          <p:nvPr/>
        </p:nvGraphicFramePr>
        <p:xfrm>
          <a:off x="2916360" y="4365720"/>
          <a:ext cx="4584600" cy="22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16360" y="4365720"/>
                    <a:ext cx="4584600" cy="22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ceberg Pruning in Shared Dimens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/>
          </p:nvPr>
        </p:nvSpPr>
        <p:spPr>
          <a:xfrm>
            <a:off x="323640" y="1341360"/>
            <a:ext cx="85690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 property of shared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 measure is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nti-monotoni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and if the aggregate value on a shared dimension does not satisfy the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ond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n all the cells extended from this shared dimension cannot satisfy the condition ei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uition: if we can compute the shared dimensions before the actual cuboid, we can use them to d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prior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pru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roblem: how to prune while still aggregate simultaneously on multiple dimensions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Attributes and Star Nod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/>
          </p:nvPr>
        </p:nvSpPr>
        <p:spPr>
          <a:xfrm>
            <a:off x="456840" y="1523880"/>
            <a:ext cx="5483160" cy="507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Intuition: If a single-dimensional  aggregate on an attribute valu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does not satisfy the iceberg condition, it is useless to distinguish them during the iceberg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E.g.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, 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SimSun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olution: Replace such attributes by a *.  Such attributes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attributes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nd the corresponding nodes in the cell tree ar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18120" y="2590920"/>
          <a:ext cx="2741760" cy="2208240"/>
        </p:xfrm>
        <a:graphic>
          <a:graphicData uri="http://schemas.openxmlformats.org/drawingml/2006/table">
            <a:tbl>
              <a:tblPr/>
              <a:tblGrid>
                <a:gridCol w="446400"/>
                <a:gridCol w="446400"/>
                <a:gridCol w="446040"/>
                <a:gridCol w="446400"/>
                <a:gridCol w="956520"/>
              </a:tblGrid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: Star Reduc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/>
          </p:nvPr>
        </p:nvSpPr>
        <p:spPr>
          <a:xfrm>
            <a:off x="323640" y="1484280"/>
            <a:ext cx="5343480" cy="50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Suppose minsup = 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Perform one-dimensional aggregation.  Replace attribute values whose count &lt; 2 with *.  And collapse all *’s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Resulting table has all such attributes replaced with the star-attrib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With regards to the iceberg computation, this new tabl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5940360" y="4508640"/>
          <a:ext cx="2885760" cy="1931400"/>
        </p:xfrm>
        <a:graphic>
          <a:graphicData uri="http://schemas.openxmlformats.org/drawingml/2006/table">
            <a:tbl>
              <a:tblPr/>
              <a:tblGrid>
                <a:gridCol w="561600"/>
                <a:gridCol w="480960"/>
                <a:gridCol w="398160"/>
                <a:gridCol w="563040"/>
                <a:gridCol w="882000"/>
              </a:tblGrid>
              <a:tr h="39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0" name=""/>
          <p:cNvGraphicFramePr/>
          <p:nvPr/>
        </p:nvGraphicFramePr>
        <p:xfrm>
          <a:off x="5940360" y="1773360"/>
          <a:ext cx="2743200" cy="2190600"/>
        </p:xfrm>
        <a:graphic>
          <a:graphicData uri="http://schemas.openxmlformats.org/drawingml/2006/table">
            <a:tbl>
              <a:tblPr/>
              <a:tblGrid>
                <a:gridCol w="533520"/>
                <a:gridCol w="457200"/>
                <a:gridCol w="457200"/>
                <a:gridCol w="457200"/>
                <a:gridCol w="83808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ou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b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a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d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1" name=""/>
          <p:cNvSpPr/>
          <p:nvPr/>
        </p:nvSpPr>
        <p:spPr>
          <a:xfrm>
            <a:off x="7308720" y="4005360"/>
            <a:ext cx="0" cy="44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395280" y="1412640"/>
            <a:ext cx="4464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Given the new compressed table, it is possible to construct the corresponding cell tree—called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Keep a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SimSun"/>
              </a:rPr>
              <a:t>sta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at the side for easy lookup of star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The star tree is 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oseless compres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 of the original cell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1"/>
          <a:stretch/>
        </p:blipFill>
        <p:spPr>
          <a:xfrm>
            <a:off x="5029200" y="1295280"/>
            <a:ext cx="3962520" cy="2895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Lattice 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16" name=""/>
          <p:cNvGraphicFramePr/>
          <p:nvPr/>
        </p:nvGraphicFramePr>
        <p:xfrm>
          <a:off x="457200" y="1676520"/>
          <a:ext cx="8458200" cy="475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8458200" cy="47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 txBox="1"/>
          <p:nvPr/>
        </p:nvSpPr>
        <p:spPr>
          <a:xfrm>
            <a:off x="291240" y="229680"/>
            <a:ext cx="4262040" cy="75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8686800" cy="481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0" name=""/>
          <p:cNvGraphicFramePr/>
          <p:nvPr/>
        </p:nvGraphicFramePr>
        <p:xfrm>
          <a:off x="4870440" y="258840"/>
          <a:ext cx="3517920" cy="1146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0440" y="258840"/>
                    <a:ext cx="3517920" cy="114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2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097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tar-Cubing Algorithm—DFS on Star-Tre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525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228600" y="1676520"/>
          <a:ext cx="8534520" cy="3019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8600" y="1676520"/>
                    <a:ext cx="8534520" cy="30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9" name=""/>
          <p:cNvSpPr/>
          <p:nvPr/>
        </p:nvSpPr>
        <p:spPr>
          <a:xfrm>
            <a:off x="380880" y="4876920"/>
            <a:ext cx="8229600" cy="17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Star-Tree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80520" y="1523880"/>
            <a:ext cx="830268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rt depth-first search at the root of the base star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t each new node in the DFS, create corresponding star tree that are descendents of the current tree according to the integrated traversal orderi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.g., in the base tree, 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CD/A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13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ABD/AD tree is cre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counts in the base tree are carried over to the new tre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20360" y="53964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fficient Computation of Data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400" y="1260000"/>
            <a:ext cx="8534520" cy="51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Preliminary cube computation trick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Computing full/iceberg cubes: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Top-Down: </a:t>
            </a:r>
            <a:r>
              <a:rPr b="0" lang="en-US" sz="2800" spc="-1" strike="noStrike">
                <a:solidFill>
                  <a:srgbClr val="0000ff"/>
                </a:solidFill>
                <a:latin typeface="Tahoma"/>
                <a:ea typeface="SimSun"/>
              </a:rPr>
              <a:t>Multi-Wa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array aggreg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Bottom-Up: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  <a:ea typeface="SimSun"/>
              </a:rPr>
              <a:t>Bottom-up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computation: BUC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ntegrating Top-Down and Bottom-U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imensional OLAP: A Minimal Cubing Approac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 txBox="1"/>
          <p:nvPr/>
        </p:nvSpPr>
        <p:spPr>
          <a:xfrm>
            <a:off x="718560" y="412560"/>
            <a:ext cx="7723800" cy="6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ggregation (2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4920" y="1341360"/>
            <a:ext cx="8226360" cy="495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DFS reaches a leaf node (e.g.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, start backtra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 every backtracking branch, the count in the corresponding trees are output, the tree is destroyed, and the node in the base tree is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c*/a1b*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traversing from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ack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th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1b*D/a1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ree is output and destroy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When a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*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, jump to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b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repeat similar pro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195640" y="2421000"/>
            <a:ext cx="4724280" cy="412596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Curse of Dimensionalit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None of the previous cubing method can handle high dimensionality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 database of 600k tuples.  Each dimension has cardinality of 100 an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zipf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2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440" y="471600"/>
            <a:ext cx="779292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otivation of High-D OLAP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1849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hallenge to current cubing metho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“curse of dimensionality’’ probl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ceberg cube and compressed cubes: only delay the inevitable explo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ull materialization: still significant overhead in accessing results on dis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High-D OLAP is needed i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cience and engineering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io-data analysis: thousands of ge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tatistical surveys: hundreds of vari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162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ast High-D OLAP with Minimal Cubing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1136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Observ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: OLAP occurs only on a small subset of dimensions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4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Tahoma"/>
                <a:ea typeface="SimSun"/>
              </a:rPr>
              <a:t>Semi-Online Computational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the set of dimensions int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data cubes for each shell fragment while retaining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verted indic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r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value-list ind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4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Given the pre-computed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ragment cub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dynamically compute cube cells of the high-dimensional data cube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operties of Proposed Metho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Partitions the data vertical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Reduces high-dimensional cube into a set of lower dimensional cub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nline re-construction of original high-dimensional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  <a:ea typeface="SimSun"/>
              </a:rPr>
              <a:t>Lossless redu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0280" indent="-530280">
              <a:lnSpc>
                <a:spcPct val="15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636480"/>
                <a:tab algn="l" pos="1085760"/>
                <a:tab algn="l" pos="1535040"/>
                <a:tab algn="l" pos="1984320"/>
                <a:tab algn="l" pos="2433600"/>
                <a:tab algn="l" pos="2882880"/>
                <a:tab algn="l" pos="3332160"/>
                <a:tab algn="l" pos="3781440"/>
                <a:tab algn="l" pos="4230720"/>
                <a:tab algn="l" pos="4680000"/>
                <a:tab algn="l" pos="5129280"/>
                <a:tab algn="l" pos="5578560"/>
                <a:tab algn="l" pos="6027840"/>
                <a:tab algn="l" pos="6477120"/>
                <a:tab algn="l" pos="6926400"/>
                <a:tab algn="l" pos="7375680"/>
                <a:tab algn="l" pos="7824960"/>
                <a:tab algn="l" pos="8273880"/>
                <a:tab algn="l" pos="8723160"/>
                <a:tab algn="l" pos="91724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Offers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radeoff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between the amount of pre-processing and the speed of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ampl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et the cube aggregation function 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5 dimensions into 2 shell fragment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 and (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, 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1981080" y="2295360"/>
            <a:ext cx="4647960" cy="2733480"/>
            <a:chOff x="1981080" y="2295360"/>
            <a:chExt cx="4647960" cy="2733480"/>
          </a:xfrm>
        </p:grpSpPr>
        <p:sp>
          <p:nvSpPr>
            <p:cNvPr id="546" name=""/>
            <p:cNvSpPr/>
            <p:nvPr/>
          </p:nvSpPr>
          <p:spPr>
            <a:xfrm>
              <a:off x="58532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0788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0452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52980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75544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981080" y="457200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8532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788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30452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52980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75544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981080" y="41169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532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788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30452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2980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75544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981080" y="36615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8532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0788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30452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52980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75544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1080" y="3206160"/>
              <a:ext cx="774360" cy="45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8532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0788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30452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52980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75544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981080" y="27507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532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0788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30452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52980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275544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981080" y="2295360"/>
              <a:ext cx="77436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981080" y="2295360"/>
              <a:ext cx="46468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981080" y="27507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981080" y="32061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981080" y="366156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981080" y="4116960"/>
              <a:ext cx="46468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81080" y="4572000"/>
              <a:ext cx="46468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981080" y="5027760"/>
              <a:ext cx="464688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981080" y="2295360"/>
              <a:ext cx="144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5544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52980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30452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078880" y="2295360"/>
              <a:ext cx="144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5853240" y="2295360"/>
              <a:ext cx="1080" cy="2732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627960" y="2295360"/>
              <a:ext cx="1080" cy="2732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1-D Inverted Indic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Build traditional invert index or RID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1828800" y="2209680"/>
            <a:ext cx="5181120" cy="4079520"/>
            <a:chOff x="1828800" y="2209680"/>
            <a:chExt cx="5181120" cy="4079520"/>
          </a:xfrm>
        </p:grpSpPr>
        <p:sp>
          <p:nvSpPr>
            <p:cNvPr id="599" name=""/>
            <p:cNvSpPr/>
            <p:nvPr/>
          </p:nvSpPr>
          <p:spPr>
            <a:xfrm>
              <a:off x="5713560" y="591804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809160" y="591804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828800" y="591804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713560" y="554976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809160" y="554976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 4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828800" y="554976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3560" y="518004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809160" y="518004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828800" y="518004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e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713560" y="48103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809160" y="48103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28800" y="48103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13560" y="444060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09160" y="444060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828800" y="444060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d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713560" y="407232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809160" y="407232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828800" y="407232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713560" y="370296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809160" y="370296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828800" y="370296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713560" y="3332880"/>
              <a:ext cx="12945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809160" y="3332880"/>
              <a:ext cx="190440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828800" y="3332880"/>
              <a:ext cx="19803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713560" y="2963520"/>
              <a:ext cx="12945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809160" y="2963520"/>
              <a:ext cx="190440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28800" y="2963520"/>
              <a:ext cx="198036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713560" y="2595240"/>
              <a:ext cx="12945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809160" y="2595240"/>
              <a:ext cx="190440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 2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828800" y="2595240"/>
              <a:ext cx="1980360" cy="36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713560" y="2209680"/>
              <a:ext cx="12945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ist Siz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809160" y="2209680"/>
              <a:ext cx="190440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 Li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828800" y="2209680"/>
              <a:ext cx="19803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ttribute Val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28800" y="220968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828800" y="2595240"/>
              <a:ext cx="5179680" cy="1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828800" y="29635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8800" y="333288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28800" y="37029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828800" y="407232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828800" y="4440600"/>
              <a:ext cx="5179680" cy="1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828800" y="481032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828800" y="5180040"/>
              <a:ext cx="517968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828800" y="554976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828800" y="5918040"/>
              <a:ext cx="517968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828800" y="6287760"/>
              <a:ext cx="517968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828800" y="2209680"/>
              <a:ext cx="108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809160" y="2209680"/>
              <a:ext cx="144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713560" y="2209680"/>
              <a:ext cx="1080" cy="4078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008480" y="2209680"/>
              <a:ext cx="1440" cy="407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136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eneralize the 1-D inverted indices to multi-dimensional ones in the data cube sen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50" name=""/>
          <p:cNvGraphicFramePr/>
          <p:nvPr/>
        </p:nvGraphicFramePr>
        <p:xfrm>
          <a:off x="1600200" y="3124080"/>
          <a:ext cx="6400800" cy="2438640"/>
        </p:xfrm>
        <a:graphic>
          <a:graphicData uri="http://schemas.openxmlformats.org/drawingml/2006/table">
            <a:tbl>
              <a:tblPr/>
              <a:tblGrid>
                <a:gridCol w="1066680"/>
                <a:gridCol w="2743200"/>
                <a:gridCol w="1295640"/>
                <a:gridCol w="129528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Ce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Inters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TID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List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1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 2 3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1 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SimSun"/>
                        </a:rPr>
                        <a:t>a2 b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 5    2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51" name=""/>
              <p:cNvSpPr txBox="1"/>
              <p:nvPr/>
            </p:nvSpPr>
            <p:spPr>
              <a:xfrm>
                <a:off x="3359160" y="3684600"/>
                <a:ext cx="22212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2" name=""/>
              <p:cNvSpPr txBox="1"/>
              <p:nvPr/>
            </p:nvSpPr>
            <p:spPr>
              <a:xfrm>
                <a:off x="3352680" y="41911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3" name=""/>
              <p:cNvSpPr txBox="1"/>
              <p:nvPr/>
            </p:nvSpPr>
            <p:spPr>
              <a:xfrm>
                <a:off x="3124080" y="467532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4" name=""/>
              <p:cNvSpPr txBox="1"/>
              <p:nvPr/>
            </p:nvSpPr>
            <p:spPr>
              <a:xfrm>
                <a:off x="3124080" y="5181480"/>
                <a:ext cx="222480" cy="20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Ç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5" name=""/>
              <p:cNvSpPr txBox="1"/>
              <p:nvPr/>
            </p:nvSpPr>
            <p:spPr>
              <a:xfrm>
                <a:off x="5486400" y="5130720"/>
                <a:ext cx="3049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Ä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877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all cuboids for data cub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D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while retaining the inverted ind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shell fragment cube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contains 7 cuboi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, B, 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, AC, 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is completes the offline computation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3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37900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a database of T tuples, D dimensions, and F shell fragment size, the fragment cubes’ space requirement i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F &lt; 5, the growth is sub-linea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0" name=""/>
              <p:cNvSpPr txBox="1"/>
              <p:nvPr/>
            </p:nvSpPr>
            <p:spPr>
              <a:xfrm>
                <a:off x="3048120" y="2971800"/>
                <a:ext cx="2895480" cy="12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  <m:d>
                          <m:dPr>
                            <m:begChr m:val="⌈"/>
                            <m:endChr m:val="⌉"/>
                          </m:dPr>
                          <m:e>
                            <m:f>
                              <m:num>
                                <m:r>
                                  <m:t xml:space="preserve">D</m:t>
                                </m:r>
                              </m:num>
                              <m:den>
                                <m:r>
                                  <m:t xml:space="preserve">F</m:t>
                                </m:r>
                              </m:den>
                            </m:f>
                          </m:e>
                        </m:d>
                        <m:r>
                          <m:t xml:space="preserve">(</m:t>
                        </m:r>
                        <m:sSup>
                          <m:e>
                            <m:r>
                              <m:t xml:space="preserve">2</m:t>
                            </m:r>
                          </m:e>
                          <m:sup>
                            <m:r>
                              <m:t xml:space="preserve">F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4760" y="260280"/>
            <a:ext cx="8894880" cy="8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Preliminary Tricks (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SimSun"/>
              </a:rPr>
              <a:t>Agarwal et al. VLDB’96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orting, hashing, and grouping operations are applied to the dimension attributes in order to reorder and cluster related tup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Aggregates may be computed from previously computed aggregates, rather than from</a:t>
            </a:r>
            <a:r>
              <a:rPr b="0" lang="en-US" sz="2000" spc="-1" strike="noStrike">
                <a:solidFill>
                  <a:srgbClr val="00ff00"/>
                </a:solidFill>
                <a:latin typeface="Tahoma"/>
                <a:ea typeface="SimSun"/>
              </a:rPr>
              <a:t> the base fact t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mallest-child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 cuboid from the smallest, previously computed cubo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Cache-resul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caching results of a cuboid from which other cuboids are computed to reduce disk I/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Amortize-sca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computing as many as possible cuboids at the same time to amortize disk rea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s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 sharing sorting costs cross multiple cuboids when sort-based method is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Share-partiti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SimSun"/>
              </a:rPr>
              <a:t> sharing the partitioning cost across multiple cuboids when hash-based algorithms are u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hell Fragment Cubes (4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7954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s do not have to be disj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ragment groupings can be arbitrary to allow for maximum online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7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Known common combinations (e.g.,&lt;city, state&gt;) should be grouped togethe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7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Shell fragment sizes can be adjusted for optimal balance between offline and online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ID_Measure Tabl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measures other than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SimSun"/>
              </a:rPr>
              <a:t>coun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are present, store in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D_measu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table separate from the shell fra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65" name=""/>
          <p:cNvGrpSpPr/>
          <p:nvPr/>
        </p:nvGrpSpPr>
        <p:grpSpPr>
          <a:xfrm>
            <a:off x="2362320" y="2666880"/>
            <a:ext cx="4647600" cy="2895480"/>
            <a:chOff x="2362320" y="2666880"/>
            <a:chExt cx="4647600" cy="2895480"/>
          </a:xfrm>
        </p:grpSpPr>
        <p:sp>
          <p:nvSpPr>
            <p:cNvPr id="666" name=""/>
            <p:cNvSpPr/>
            <p:nvPr/>
          </p:nvSpPr>
          <p:spPr>
            <a:xfrm>
              <a:off x="5646960" y="50785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911040" y="50785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362320" y="50785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46960" y="45964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11040" y="45964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362320" y="45964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646960" y="41140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911040" y="41140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362320" y="41140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646960" y="363132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911040" y="363132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362320" y="363132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646960" y="3149280"/>
              <a:ext cx="136116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911040" y="3149280"/>
              <a:ext cx="17341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362320" y="3149280"/>
              <a:ext cx="1548720" cy="48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5646960" y="2666880"/>
              <a:ext cx="136116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su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911040" y="2666880"/>
              <a:ext cx="1734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ou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362320" y="2666880"/>
              <a:ext cx="1548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i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362320" y="2666880"/>
              <a:ext cx="46461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362320" y="31492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362320" y="36313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362320" y="41140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362320" y="4596480"/>
              <a:ext cx="46461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62320" y="5078520"/>
              <a:ext cx="464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62320" y="5561280"/>
              <a:ext cx="46461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362320" y="2666880"/>
              <a:ext cx="108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91104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646960" y="2666880"/>
              <a:ext cx="1080" cy="289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008480" y="2666880"/>
              <a:ext cx="1440" cy="2894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The Frag-Shells Algorithm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-179640" y="1260360"/>
            <a:ext cx="91803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set of dimension (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 into a set of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fragments (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…,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can base table once and do the follo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insert &lt;tid, measure&gt; into ID_measure tab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attribute value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of each dimension 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inverted index entry &lt;a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, tidlist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For each fragment partition P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25320" indent="-625320">
              <a:lnSpc>
                <a:spcPct val="16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imes New Roman"/>
              <a:buChar char="n"/>
              <a:tabLst>
                <a:tab algn="l" pos="731880"/>
                <a:tab algn="l" pos="1181160"/>
                <a:tab algn="l" pos="1630440"/>
                <a:tab algn="l" pos="2079720"/>
                <a:tab algn="l" pos="2529000"/>
                <a:tab algn="l" pos="2978280"/>
                <a:tab algn="l" pos="3427560"/>
                <a:tab algn="l" pos="3876840"/>
                <a:tab algn="l" pos="4325760"/>
                <a:tab algn="l" pos="4775040"/>
                <a:tab algn="l" pos="5224320"/>
                <a:tab algn="l" pos="5673600"/>
                <a:tab algn="l" pos="6122880"/>
                <a:tab algn="l" pos="6572160"/>
                <a:tab algn="l" pos="7021440"/>
                <a:tab algn="l" pos="7470720"/>
                <a:tab algn="l" pos="7920000"/>
                <a:tab algn="l" pos="8369280"/>
                <a:tab algn="l" pos="8818560"/>
                <a:tab algn="l" pos="92678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build local fragment cube S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by intersecting tid-lists in bottom-up fashi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7" name=""/>
          <p:cNvSpPr/>
          <p:nvPr/>
        </p:nvSpPr>
        <p:spPr>
          <a:xfrm>
            <a:off x="7121520" y="445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Frag-Shells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1219320" y="2711520"/>
            <a:ext cx="2895120" cy="516960"/>
            <a:chOff x="1219320" y="2711520"/>
            <a:chExt cx="2895120" cy="516960"/>
          </a:xfrm>
        </p:grpSpPr>
        <p:sp>
          <p:nvSpPr>
            <p:cNvPr id="700" name=""/>
            <p:cNvSpPr/>
            <p:nvPr/>
          </p:nvSpPr>
          <p:spPr>
            <a:xfrm>
              <a:off x="369900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28680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87244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59880" y="2711520"/>
              <a:ext cx="41256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0455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633320" y="2711520"/>
              <a:ext cx="4122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219320" y="2711520"/>
              <a:ext cx="414000" cy="51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219320" y="2711520"/>
              <a:ext cx="289404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219320" y="3227040"/>
              <a:ext cx="28940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21932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3332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045520" y="2711520"/>
              <a:ext cx="144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45988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87244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2868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99000" y="2711520"/>
              <a:ext cx="1080" cy="51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113360" y="2711520"/>
              <a:ext cx="1080" cy="515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"/>
          <p:cNvSpPr/>
          <p:nvPr/>
        </p:nvSpPr>
        <p:spPr>
          <a:xfrm rot="16200000">
            <a:off x="171144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 rot="16200000">
            <a:off x="3006720" y="290160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952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666880" y="377820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136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669040" y="4768920"/>
            <a:ext cx="73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E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Cub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 flipV="1">
            <a:off x="3505320" y="3355920"/>
            <a:ext cx="1218960" cy="88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876920" y="2320920"/>
            <a:ext cx="3124080" cy="308916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5590440" y="2286000"/>
            <a:ext cx="105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5371200" y="255600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EF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5191920" y="281952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  <a:ea typeface="SimSun"/>
              </a:rPr>
              <a:t>DE Cubo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4952880" y="3124080"/>
            <a:ext cx="2395440" cy="1614240"/>
            <a:chOff x="4952880" y="3124080"/>
            <a:chExt cx="2395440" cy="1614240"/>
          </a:xfrm>
        </p:grpSpPr>
        <p:sp>
          <p:nvSpPr>
            <p:cNvPr id="729" name=""/>
            <p:cNvSpPr/>
            <p:nvPr/>
          </p:nvSpPr>
          <p:spPr>
            <a:xfrm>
              <a:off x="5846040" y="441828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4952880" y="441828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846040" y="4080240"/>
              <a:ext cx="150084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5, 10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952880" y="4080240"/>
              <a:ext cx="893160" cy="33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2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846040" y="37616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2, 4, 6, 7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4952880" y="37616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2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5846040" y="3443040"/>
              <a:ext cx="150084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{1, 3, 8, 9}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952880" y="3443040"/>
              <a:ext cx="893160" cy="3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1 e1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846040" y="3124080"/>
              <a:ext cx="150084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Tuple-ID Lis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952880" y="3124080"/>
              <a:ext cx="89316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el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952880" y="34430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952880" y="37616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52880" y="408024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952880" y="473724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952880" y="3124080"/>
              <a:ext cx="144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8460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4418280"/>
              <a:ext cx="2394360" cy="1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952880" y="3124080"/>
              <a:ext cx="23943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47240" y="3124080"/>
              <a:ext cx="1080" cy="1613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8" name=""/>
          <p:cNvSpPr/>
          <p:nvPr/>
        </p:nvSpPr>
        <p:spPr>
          <a:xfrm>
            <a:off x="1935360" y="228600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SimSun"/>
              </a:rPr>
              <a:t>Dimen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85440" y="379440"/>
            <a:ext cx="779004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874280" cy="50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 query has the general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Each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SimSun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 has 3 possibl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Aggregate *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90720" indent="-533520">
              <a:lnSpc>
                <a:spcPct val="15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quire ? fun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150000"/>
              </a:lnSpc>
              <a:spcBef>
                <a:spcPts val="700"/>
              </a:spcBef>
              <a:buClr>
                <a:srgbClr val="3333cc"/>
              </a:buClr>
              <a:buSzPct val="14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or example,                                returns a 2-D data cub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1" name=""/>
              <p:cNvSpPr txBox="1"/>
              <p:nvPr/>
            </p:nvSpPr>
            <p:spPr>
              <a:xfrm>
                <a:off x="5257800" y="1676520"/>
                <a:ext cx="213372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K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:</m:t>
                        </m:r>
                        <m:r>
                          <m:t xml:space="preserve">M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2" name=""/>
              <p:cNvSpPr txBox="1"/>
              <p:nvPr/>
            </p:nvSpPr>
            <p:spPr>
              <a:xfrm>
                <a:off x="2895480" y="4764240"/>
                <a:ext cx="2965680" cy="41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m>
                          <m:mr>
                            <m:e>
                              <m:m>
                                <m:mr>
                                  <m:e>
                                    <m:r>
                                      <m:t xml:space="preserve">3</m:t>
                                    </m:r>
                                  </m:e>
                                  <m:e>
                                    <m:r>
                                      <m:t xml:space="preserve">?</m:t>
                                    </m:r>
                                  </m:e>
                                </m:mr>
                              </m:m>
                            </m:e>
                            <m:e>
                              <m:r>
                                <m:t xml:space="preserve">?</m:t>
                              </m:r>
                            </m:e>
                            <m:e/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  <m:r>
                          <m:t xml:space="preserve">:</m:t>
                        </m:r>
                        <m:r>
                          <m:rPr>
                            <m:lit/>
                            <m:nor/>
                          </m:rPr>
                          <m:t xml:space="preserve">coun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2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795492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0480" indent="-600480">
              <a:lnSpc>
                <a:spcPct val="13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Given the fragment cubes, process a query as follow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Divide the query into fragment, same as the sh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Fetch the corresponding TID list for each fragment from the fragment cub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tersect the TID lists from each fragment to construct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nstantiated base 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77400" indent="-524880">
              <a:lnSpc>
                <a:spcPct val="13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imes New Roman"/>
              <a:buChar char="n"/>
              <a:tabLst>
                <a:tab algn="l" pos="712800"/>
                <a:tab algn="l" pos="1162080"/>
                <a:tab algn="l" pos="1611360"/>
                <a:tab algn="l" pos="2060640"/>
                <a:tab algn="l" pos="2509920"/>
                <a:tab algn="l" pos="2959200"/>
                <a:tab algn="l" pos="3408480"/>
                <a:tab algn="l" pos="3857760"/>
                <a:tab algn="l" pos="4307040"/>
                <a:tab algn="l" pos="4756320"/>
                <a:tab algn="l" pos="5205240"/>
                <a:tab algn="l" pos="5654520"/>
                <a:tab algn="l" pos="6103800"/>
                <a:tab algn="l" pos="6553080"/>
                <a:tab algn="l" pos="7002360"/>
                <a:tab algn="l" pos="7451640"/>
                <a:tab algn="l" pos="7900920"/>
                <a:tab algn="l" pos="8350200"/>
                <a:tab algn="l" pos="8799480"/>
                <a:tab algn="l" pos="9248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Compute the data cube using the base table with any cubing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Online Query Computation (3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1066680" y="2057400"/>
            <a:ext cx="6210000" cy="517320"/>
            <a:chOff x="1066680" y="2057400"/>
            <a:chExt cx="6210000" cy="517320"/>
          </a:xfrm>
        </p:grpSpPr>
        <p:sp>
          <p:nvSpPr>
            <p:cNvPr id="757" name=""/>
            <p:cNvSpPr/>
            <p:nvPr/>
          </p:nvSpPr>
          <p:spPr>
            <a:xfrm>
              <a:off x="68608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…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6446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3252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5618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5203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90160" y="2057400"/>
              <a:ext cx="41364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3758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1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54744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13452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72016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307960" y="2057400"/>
              <a:ext cx="4122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189360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480680" y="2057400"/>
              <a:ext cx="41256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1066680" y="2057400"/>
              <a:ext cx="414000" cy="51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  <a:ea typeface="SimSu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1066680" y="205740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066680" y="2573640"/>
              <a:ext cx="6208560" cy="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106668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14806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18936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3079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720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134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547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275240" y="2057400"/>
              <a:ext cx="1440" cy="516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6144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7580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790160" y="2057400"/>
              <a:ext cx="108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520380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816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6032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44652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860880" y="2057400"/>
              <a:ext cx="1440" cy="516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0" name=""/>
          <p:cNvSpPr/>
          <p:nvPr/>
        </p:nvSpPr>
        <p:spPr>
          <a:xfrm rot="16200000">
            <a:off x="1558800" y="225360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rot="16200000">
            <a:off x="2854440" y="225396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11430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2514600" y="3130560"/>
            <a:ext cx="914400" cy="83808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 rot="16200000">
            <a:off x="40734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37339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rot="16200000">
            <a:off x="5292720" y="2247480"/>
            <a:ext cx="228600" cy="1066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495288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rot="16200000">
            <a:off x="6588000" y="2247120"/>
            <a:ext cx="228600" cy="1067040"/>
          </a:xfrm>
          <a:custGeom>
            <a:avLst/>
            <a:gdLst>
              <a:gd name="textAreaLeft" fmla="*/ 146160 w 228600"/>
              <a:gd name="textAreaRight" fmla="*/ 228960 w 22860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248520" y="3124080"/>
            <a:ext cx="914400" cy="83844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1143000" y="37339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2514600" y="350532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733920" y="3809880"/>
            <a:ext cx="685800" cy="180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4952880" y="36576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6248520" y="3429000"/>
            <a:ext cx="685800" cy="144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 flipV="1">
            <a:off x="1828800" y="35020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 flipV="1">
            <a:off x="3200400" y="327348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 flipV="1">
            <a:off x="4419720" y="3578400"/>
            <a:ext cx="228600" cy="2347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 flipV="1">
            <a:off x="5638680" y="34254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 flipV="1">
            <a:off x="6934320" y="3196800"/>
            <a:ext cx="228600" cy="23508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334120" y="4724280"/>
            <a:ext cx="1904760" cy="1600200"/>
          </a:xfrm>
          <a:prstGeom prst="cube">
            <a:avLst>
              <a:gd name="adj" fmla="val 25000"/>
            </a:avLst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On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C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114800" y="5410080"/>
            <a:ext cx="838080" cy="381240"/>
          </a:xfrm>
          <a:prstGeom prst="rightArrow">
            <a:avLst>
              <a:gd name="adj1" fmla="val 50000"/>
              <a:gd name="adj2" fmla="val 54958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1143000" y="4724280"/>
            <a:ext cx="2590920" cy="1600200"/>
          </a:xfrm>
          <a:prstGeom prst="flowChartInternalStorage">
            <a:avLst/>
          </a:prstGeom>
          <a:solidFill>
            <a:srgbClr val="00e4a8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Instanti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  <a:ea typeface="SimSun"/>
              </a:rPr>
              <a:t>Base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523880" y="3809880"/>
            <a:ext cx="18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 flipH="1">
            <a:off x="1825200" y="3581280"/>
            <a:ext cx="10731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>
            <a:off x="2435400" y="3886200"/>
            <a:ext cx="15300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 flipH="1">
            <a:off x="3044520" y="3733920"/>
            <a:ext cx="236844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01720" y="3505320"/>
            <a:ext cx="28256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348760" cy="10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Dimensionality (50 and 100 cardinality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1218960" y="6019920"/>
            <a:ext cx="701028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0 skew, 50 cardinality, fragment size 3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C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 skew, 100 cardinality, fragment size 2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685440" y="-3240"/>
            <a:ext cx="77929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Siz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1"/>
          <a:stretch/>
        </p:blipFill>
        <p:spPr>
          <a:xfrm>
            <a:off x="17524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3" name=""/>
          <p:cNvSpPr/>
          <p:nvPr/>
        </p:nvSpPr>
        <p:spPr>
          <a:xfrm>
            <a:off x="1371600" y="6019920"/>
            <a:ext cx="71629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5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50 dimensions, 0 skew, 50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0 dimensions, 2 skew, 25 cardinalit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7487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Run-time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5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410080" cy="4057560"/>
          </a:xfrm>
          <a:prstGeom prst="rect">
            <a:avLst/>
          </a:prstGeom>
          <a:ln w="0">
            <a:noFill/>
          </a:ln>
        </p:spPr>
      </p:pic>
      <p:sp>
        <p:nvSpPr>
          <p:cNvPr id="826" name=""/>
          <p:cNvSpPr/>
          <p:nvPr/>
        </p:nvSpPr>
        <p:spPr>
          <a:xfrm>
            <a:off x="1905120" y="6019920"/>
            <a:ext cx="6172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ity, skew 1, fragment size 3, 3 instantiated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579600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Array-based </a:t>
            </a:r>
            <a:r>
              <a:rPr b="0" lang="en-US" sz="2600" spc="-1" strike="noStrike">
                <a:solidFill>
                  <a:srgbClr val="006666"/>
                </a:solidFill>
                <a:latin typeface="Tahoma"/>
                <a:ea typeface="SimSun"/>
              </a:rPr>
              <a:t>“bottom-up”</a:t>
            </a: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 algorithm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Using multi-dimensional chunk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No direct tuple comparis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Simultaneous aggregation on multiple dimension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  <a:ea typeface="SimSun"/>
              </a:rPr>
              <a:t>Intermediate aggregate values are re-used for computing ancestor cuboid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056280" y="2303640"/>
          <a:ext cx="2943360" cy="32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56280" y="2303640"/>
                    <a:ext cx="2943360" cy="32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127080" y="498600"/>
            <a:ext cx="887256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Experiment:  I/O vs. Shell-Fragment Siz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981080" y="182880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762120" y="5940360"/>
            <a:ext cx="79246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1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4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(20-D): 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20 dimensions, 10 cardinalty, 1 skew, 3 inst., 4 quer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896472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Experiment: I/O vs. # of Instantiated Dimension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257800" cy="3943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1828800" y="5943600"/>
            <a:ext cx="6095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Font typeface="Wingdings" charset="2"/>
              <a:buChar char="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1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ahoma"/>
                <a:ea typeface="SimSun"/>
              </a:rPr>
              <a:t>6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 tuples, 10 dimensions, 10 cardinalty, 0 skew, fragment size 1, 7 total relevant dimensi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Summa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Efficient algorithms for computing data cub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Multiway array aggreg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BU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Star-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1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SimSun"/>
              </a:rPr>
              <a:t>High-D OLAP by minimal cub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84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References (I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0" y="1260360"/>
            <a:ext cx="9144000" cy="543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Agarwal, R. Agrawal, P. M. Deshpande, A. Gupta, J. F. Naughton, R. Ramakrishnan, and S. Sarawagi.  On the computation of multidimensional aggregates. VLDB’9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D. Agrawal, A. E. Abbadi, A. Singh, and T. Yurek. Efficient view maintenance in data warehous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R. Agrawal, A. Gupta, and S. Sarawagi. Modeling multidimensional databases.  ICDE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K. Beyer and R. Ramakrishnan. Bottom-Up Computation of Sparse and Iceberg CUBEs.. SIGMOD’99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Y. Chen, G. Dong, J. Han, B. W. Wah, and J. Wang, Multi-Dimensional Regression Analysis of Time-Series Data Streams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201"/>
              </a:spcBef>
              <a:spcAft>
                <a:spcPts val="201"/>
              </a:spcAft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G. Dong, J. Han, J. Lam, J. Pei, K. Wang. Mining Multi-dimensional Constrained Gradients in Data Cubes. VLDB’ 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3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J. Han, Y. Cai and N. Cercone, Knowledge Discovery in Databases: An Attribute-Oriented Approach, VLDB'9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J. Han, J. Pei, G. Dong, K. Wang. Efficient Computation of Iceberg Cubes With Complex Measures. SIGMOD’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References (II)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517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L. V. S. Lakshmanan, J. Pei, and J. Han, Quotient Cube: How to Summarize the Semantics of a Data Cube, VLDB'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X. Li, J. Han, and H. Gonzalez, High-Dimensional OLAP: A Minimal Cubing Approach, VLDB'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Ross and D. Srivastava.  Fast computation of sparse datacubes. VLDB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K. A. Ross, D. Srivastava, and D. Chatziantoniou. Complex aggregation at multiple granulariti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S. Sarawagi, R. Agrawal, and N. Megiddo. Discovery-driven exploration of OLAP data cubes. EDBT'98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G. Sathe and S. Sarawagi. Intelligent Rollups in Multidimensional OLAP Data.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VLDB'0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X. Li, B. W. Wah, Star-Cubing: Computing Iceberg Cubes by Top-Down and Bottom-Up Integration, VLDB'0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D. Xin, J. Han, Z. Shao, H. Liu,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C-Cubing: Efficient Computation of Closed Cubes by Aggregation-Based Checking, ICDE'0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SimSun"/>
              </a:rPr>
              <a:t>W. Wang, H. Lu, J. Feng, J. X. Yu, Condensed Cube: An Effective Approach to Reducing Data Cube Size. ICDE’0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  <a:ea typeface="SimSun"/>
              </a:rPr>
              <a:t>Y. Zhao, P. M. Deshpande, and J. F. Naughton. An array-based algorithm for simultaneous multidimensional aggregates. SIGMOD’97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150840"/>
            <a:ext cx="746784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MOLAP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7760" y="1260360"/>
            <a:ext cx="83818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Partition arrays into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SimSun"/>
              </a:rPr>
              <a:t>chunk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 (a small subcube which fits in memory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ressed sparse array addressing: (chunk_id, offset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‏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6240" indent="-336240">
              <a:lnSpc>
                <a:spcPct val="11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Compute aggregates in “multiway” by visiting cube cells in the order which minimizes the # of times to visit each cell, and reduces memory access and storage co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88620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  <a:ea typeface="SimSun"/>
              </a:rPr>
              <a:t>What is the best traversing order to do multi-way aggregatio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550800" y="3419640"/>
            <a:ext cx="4832640" cy="3218400"/>
            <a:chOff x="550800" y="3419640"/>
            <a:chExt cx="4832640" cy="3218400"/>
          </a:xfrm>
        </p:grpSpPr>
        <p:sp>
          <p:nvSpPr>
            <p:cNvPr id="115" name=""/>
            <p:cNvSpPr/>
            <p:nvPr/>
          </p:nvSpPr>
          <p:spPr>
            <a:xfrm>
              <a:off x="2565720" y="6302520"/>
              <a:ext cx="2019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409400" y="41446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370400" y="49143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70400" y="444888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370400" y="398412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14800" y="508536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14800" y="462204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14800" y="4158720"/>
              <a:ext cx="925200" cy="569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857760" y="52614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57760" y="479844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857760" y="433332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06136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0432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8720" y="3884400"/>
              <a:ext cx="9284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104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75440" y="370980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18760" y="38844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600720" y="3536640"/>
              <a:ext cx="92664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4692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08808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372200" y="353664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114800" y="3709800"/>
              <a:ext cx="925200" cy="57096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57760" y="38844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07880" y="543456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07880" y="4969800"/>
              <a:ext cx="9248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307880" y="450612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075760" y="543456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075760" y="4969800"/>
              <a:ext cx="92664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075760" y="450612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84544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4544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4544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6560" y="543456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616560" y="4969800"/>
              <a:ext cx="925200" cy="5695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16560" y="4506120"/>
              <a:ext cx="9252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307880" y="405720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77200" y="4057200"/>
              <a:ext cx="92700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46880" y="4057200"/>
              <a:ext cx="9266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627720" y="4049280"/>
              <a:ext cx="924840" cy="57132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8626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3556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40524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181400" y="38556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218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9796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24360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943440" y="566316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21800" y="52124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621800" y="47584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6275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40228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7520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947760" y="43063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7206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94776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520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02280" y="3463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48884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1772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4336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70800" y="36572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2344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1388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967760" y="34635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70760" y="361296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36400" y="380952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199520" y="39524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081800" y="43441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081800" y="4785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081800" y="52218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081800" y="57124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091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856320" y="6051600"/>
              <a:ext cx="21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080360" y="3419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50800" y="4931640"/>
              <a:ext cx="203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20840" y="444420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623840" y="46378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54120" y="4733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20840" y="4931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625280" y="507564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154120" y="517752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60360" y="53200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25280" y="551556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54120" y="4247280"/>
              <a:ext cx="2293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 spd="med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294920" y="225360"/>
            <a:ext cx="662940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927160" y="2492280"/>
            <a:ext cx="3935520" cy="3096000"/>
            <a:chOff x="2927160" y="2492280"/>
            <a:chExt cx="3935520" cy="3096000"/>
          </a:xfrm>
        </p:grpSpPr>
        <p:sp>
          <p:nvSpPr>
            <p:cNvPr id="201" name=""/>
            <p:cNvSpPr/>
            <p:nvPr/>
          </p:nvSpPr>
          <p:spPr>
            <a:xfrm>
              <a:off x="4279320" y="528300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250440" y="32025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8640" y="389448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48640" y="3444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48640" y="29937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715000" y="40611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361260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15000" y="316332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8480" y="423288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478480" y="3783600"/>
              <a:ext cx="848880" cy="5504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8480" y="3331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32920" y="2560320"/>
              <a:ext cx="8488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598560" y="27284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62040" y="2898360"/>
              <a:ext cx="85176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37440" y="2560320"/>
              <a:ext cx="8503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303080" y="272844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068000" y="2898360"/>
              <a:ext cx="84852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24412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10480" y="2728440"/>
              <a:ext cx="8488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773960" y="2898360"/>
              <a:ext cx="8470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950080" y="256032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715000" y="27284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478480" y="2898360"/>
              <a:ext cx="848880" cy="55224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413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1413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1413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45880" y="439920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845880" y="3950280"/>
              <a:ext cx="84996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845880" y="3499560"/>
              <a:ext cx="84996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551840" y="439920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51840" y="3950280"/>
              <a:ext cx="84852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551840" y="349956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58160" y="439920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00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258160" y="3950280"/>
              <a:ext cx="847080" cy="5518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8160" y="349956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42800" y="3065040"/>
              <a:ext cx="84708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847320" y="306504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551840" y="3065040"/>
              <a:ext cx="8503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267880" y="3057120"/>
              <a:ext cx="848520" cy="553680"/>
            </a:xfrm>
            <a:prstGeom prst="cube">
              <a:avLst>
                <a:gd name="adj" fmla="val 24995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63816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459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0551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764320" y="2892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4272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346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91400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50120" y="464508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27200" y="420732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427200" y="3769200"/>
              <a:ext cx="10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42684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1331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84236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550120" y="33282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2593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55012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423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133160" y="2514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04692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33736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63104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20400" y="27032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0611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4124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35720" y="251424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66440" y="2657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249000" y="284616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034800" y="2989080"/>
              <a:ext cx="243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927160" y="33663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27160" y="37915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927160" y="42170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27160" y="4689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b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76424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66960" y="5019480"/>
              <a:ext cx="19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a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927520" y="2492280"/>
              <a:ext cx="185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441840" y="34617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170400" y="3648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657840" y="374400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441840" y="39344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4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170400" y="40741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657840" y="41691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5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87840" y="431064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3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70400" y="450072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2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657840" y="3270960"/>
              <a:ext cx="20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  <a:ea typeface="SimSun"/>
                </a:rPr>
                <a:t>6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30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19320" y="150840"/>
            <a:ext cx="624816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4280400" y="528480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251160" y="3203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950080" y="389556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950080" y="344484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950080" y="299412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716440" y="406224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716440" y="361332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16440" y="3164040"/>
            <a:ext cx="8478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479920" y="423396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79920" y="3784680"/>
            <a:ext cx="849600" cy="5508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479920" y="333216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33640" y="2560680"/>
            <a:ext cx="84960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598920" y="27288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362400" y="2898720"/>
            <a:ext cx="85248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538520" y="2560680"/>
            <a:ext cx="8510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303800" y="2728800"/>
            <a:ext cx="85068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068720" y="2898720"/>
            <a:ext cx="84924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24520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011560" y="2728800"/>
            <a:ext cx="8496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775040" y="2898720"/>
            <a:ext cx="8478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951520" y="2560680"/>
            <a:ext cx="849240" cy="5522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16440" y="2728800"/>
            <a:ext cx="84780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479920" y="2898720"/>
            <a:ext cx="849600" cy="55260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14172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14172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4172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46600" y="440064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846600" y="3951360"/>
            <a:ext cx="85068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46600" y="3500280"/>
            <a:ext cx="85068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552920" y="440064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52920" y="3951360"/>
            <a:ext cx="84924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552920" y="3500280"/>
            <a:ext cx="84924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259240" y="440064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259240" y="3951360"/>
            <a:ext cx="847800" cy="5522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259240" y="350028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143160" y="3065400"/>
            <a:ext cx="847800" cy="554040"/>
          </a:xfrm>
          <a:prstGeom prst="cube">
            <a:avLst>
              <a:gd name="adj" fmla="val 24995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48040" y="306540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552920" y="3065400"/>
            <a:ext cx="8510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68960" y="3057480"/>
            <a:ext cx="849240" cy="554040"/>
          </a:xfrm>
          <a:prstGeom prst="cube">
            <a:avLst>
              <a:gd name="adj" fmla="val 24995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3852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664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5620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765760" y="28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427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13532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1508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551560" y="464652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427560" y="420840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427560" y="3770280"/>
            <a:ext cx="10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27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13388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84344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51560" y="33289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26112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55156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84344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133880" y="2514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04836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3880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63248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921120" y="2703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06224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41280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736800" y="251460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466800" y="2657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49360" y="284652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35160" y="2989440"/>
            <a:ext cx="243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c 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927520" y="3367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927520" y="37926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927520" y="42181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927520" y="4691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b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568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468760" y="5021280"/>
            <a:ext cx="19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a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927520" y="2492280"/>
            <a:ext cx="185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34624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172200" y="3649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659640" y="37450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43640" y="39355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172200" y="407520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59640" y="417024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89640" y="431172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3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450216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659640" y="3271680"/>
            <a:ext cx="20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SimSun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124080" y="1600200"/>
            <a:ext cx="3733920" cy="533520"/>
          </a:xfrm>
          <a:prstGeom prst="parallelogram">
            <a:avLst>
              <a:gd name="adj" fmla="val 1749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295280" y="4800600"/>
            <a:ext cx="28195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>
            <a:off x="4111560" y="320040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4111560" y="4952880"/>
            <a:ext cx="183528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V="1">
            <a:off x="3124080" y="2130120"/>
            <a:ext cx="180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5943600" y="2130120"/>
            <a:ext cx="1440" cy="107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 flipV="1">
            <a:off x="6781680" y="1596600"/>
            <a:ext cx="1800" cy="99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 flipV="1">
            <a:off x="3962520" y="2130120"/>
            <a:ext cx="1440" cy="46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432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981080" y="4800600"/>
            <a:ext cx="180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429000" y="4800600"/>
            <a:ext cx="1440" cy="175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29528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95280" y="5257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95280" y="61722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590920" y="3686040"/>
            <a:ext cx="169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SimSu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9960" y="2590920"/>
            <a:ext cx="916200" cy="2512800"/>
            <a:chOff x="759960" y="2590920"/>
            <a:chExt cx="916200" cy="2512800"/>
          </a:xfrm>
        </p:grpSpPr>
        <p:sp>
          <p:nvSpPr>
            <p:cNvPr id="430" name=""/>
            <p:cNvSpPr/>
            <p:nvPr/>
          </p:nvSpPr>
          <p:spPr>
            <a:xfrm flipH="1" rot="16200000">
              <a:off x="-35280" y="3392280"/>
              <a:ext cx="2512800" cy="910080"/>
            </a:xfrm>
            <a:prstGeom prst="parallelogram">
              <a:avLst>
                <a:gd name="adj" fmla="val 6902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18600" y="289512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990720" y="3047760"/>
              <a:ext cx="1080" cy="19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446120" y="2742840"/>
              <a:ext cx="1080" cy="19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59960" y="35805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59960" y="312336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759960" y="4037400"/>
              <a:ext cx="916200" cy="60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7" name=""/>
          <p:cNvSpPr/>
          <p:nvPr/>
        </p:nvSpPr>
        <p:spPr>
          <a:xfrm>
            <a:off x="3657600" y="18288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429000" y="1981080"/>
            <a:ext cx="2743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873600" y="1701720"/>
            <a:ext cx="2781360" cy="1800"/>
          </a:xfrm>
          <a:custGeom>
            <a:avLst/>
            <a:gdLst/>
            <a:ahLst/>
            <a:rect l="l" t="t" r="r" b="b"/>
            <a:pathLst>
              <a:path w="1752" h="1">
                <a:moveTo>
                  <a:pt x="0" y="0"/>
                </a:moveTo>
                <a:lnTo>
                  <a:pt x="175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4416120" y="1600200"/>
            <a:ext cx="99684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373032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5178240" y="1600200"/>
            <a:ext cx="92052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62120" y="4648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1676520" y="4495680"/>
            <a:ext cx="14475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676520" y="2590920"/>
            <a:ext cx="228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62120" y="3200400"/>
            <a:ext cx="24382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5105520"/>
            <a:ext cx="533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1295280" y="3196800"/>
            <a:ext cx="1828800" cy="160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914400" y="45720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62120" y="48006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914400" y="47242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6576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486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7242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35268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053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895480" y="62485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1337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5053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895480" y="57913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1337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447920" y="57913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32767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267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4343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914400" y="41148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762120" y="4191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62120" y="38098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400" y="37339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762120" y="39625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14400" y="38862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447920" y="48769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35053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2895480" y="5334120"/>
            <a:ext cx="7632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1337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47920" y="5334120"/>
            <a:ext cx="75960" cy="7596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5720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3434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862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505320" y="205740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32004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5791320" y="1981080"/>
            <a:ext cx="7596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257800" y="205740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029200" y="1981080"/>
            <a:ext cx="76320" cy="76320"/>
          </a:xfrm>
          <a:prstGeom prst="star5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79280" y="190440"/>
            <a:ext cx="86407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Multi-Way Array Aggregation for Cube Computation (Cont.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381880" cy="50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Method: the planes should be sorted and computed according to their size in ascending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00ff"/>
                </a:solidFill>
                <a:latin typeface="Tahoma"/>
                <a:ea typeface="SimSun"/>
              </a:rPr>
              <a:t>Idea: keep the smallest plane in the main memory, fetch and compute only one chunk at a time for the largest plan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12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Limitation of the method: computing well only for a small number of dimen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12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If there are a large number of dimensions, “</a:t>
            </a:r>
            <a:r>
              <a:rPr b="0" lang="en-US" sz="2400" spc="-1" strike="noStrike">
                <a:solidFill>
                  <a:srgbClr val="006666"/>
                </a:solidFill>
                <a:latin typeface="Tahoma"/>
                <a:ea typeface="SimSun"/>
              </a:rPr>
              <a:t>top-dow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” computation and iceberg cube computation methods can be expl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379080"/>
            <a:ext cx="779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Bottom-Up Computation (BUC)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  <a:ea typeface="SimSun"/>
              </a:rPr>
              <a:t>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78920" y="1341000"/>
            <a:ext cx="50022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Divides dimensions into segments and facilitates iceberg pru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a partition does not satisf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_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, its descendants can be pruned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9800" indent="-2826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minsup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= 1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 compute full CUB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SimSun"/>
              </a:rPr>
              <a:t>No simultaneous aggreg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91" name=""/>
          <p:cNvGraphicFramePr/>
          <p:nvPr/>
        </p:nvGraphicFramePr>
        <p:xfrm>
          <a:off x="5486400" y="1295280"/>
          <a:ext cx="304812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295280"/>
                    <a:ext cx="304812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3" name=""/>
          <p:cNvGraphicFramePr/>
          <p:nvPr/>
        </p:nvGraphicFramePr>
        <p:xfrm>
          <a:off x="5257800" y="3809880"/>
          <a:ext cx="365760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57800" y="3809880"/>
                    <a:ext cx="365760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ecture 10</a:t>
            </a:r>
          </a:p>
        </p:txBody>
      </p:sp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iawei Han</dc:creator>
  <dc:description/>
  <dc:language>en-US</dc:language>
  <cp:lastModifiedBy>Weifa Liang</cp:lastModifiedBy>
  <dcterms:modified xsi:type="dcterms:W3CDTF">2009-03-29T05:23:55Z</dcterms:modified>
  <cp:revision>29</cp:revision>
  <dc:subject/>
  <dc:title>No Slide Title</dc:title>
</cp:coreProperties>
</file>